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9.jpeg" ContentType="image/jpeg"/>
  <Override PartName="/ppt/media/image26.png" ContentType="image/pn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923088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69228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8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38"/>
          </p:nvPr>
        </p:nvSpPr>
        <p:spPr>
          <a:xfrm>
            <a:off x="3921120" y="-360"/>
            <a:ext cx="2998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Img"/>
          </p:nvPr>
        </p:nvSpPr>
        <p:spPr>
          <a:xfrm>
            <a:off x="1158840" y="690120"/>
            <a:ext cx="4603680" cy="345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39"/>
          </p:nvPr>
        </p:nvSpPr>
        <p:spPr>
          <a:xfrm>
            <a:off x="0" y="8745120"/>
            <a:ext cx="2998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 type="sldNum" idx="40"/>
          </p:nvPr>
        </p:nvSpPr>
        <p:spPr>
          <a:xfrm>
            <a:off x="3921120" y="8745120"/>
            <a:ext cx="2998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EA0E-C346-4EBC-AB37-6440BDA754F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Espaço Reservado para Número de Slide 3"/>
          <p:cNvSpPr/>
          <p:nvPr/>
        </p:nvSpPr>
        <p:spPr>
          <a:xfrm>
            <a:off x="3921120" y="8745480"/>
            <a:ext cx="2998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43D7-BC33-4D28-B4B3-DBAF4A5DAE47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Espaço Reservado para Número de Slide 3"/>
          <p:cNvSpPr/>
          <p:nvPr/>
        </p:nvSpPr>
        <p:spPr>
          <a:xfrm>
            <a:off x="3921120" y="8745480"/>
            <a:ext cx="2998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6CBD-F288-4627-A2F9-ADFCF2FB87C0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Espaço Reservado para Número de Slide 3"/>
          <p:cNvSpPr/>
          <p:nvPr/>
        </p:nvSpPr>
        <p:spPr>
          <a:xfrm>
            <a:off x="3921120" y="8745480"/>
            <a:ext cx="2998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B734-BF6A-4425-AA8C-853CD5CFFA14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Espaço Reservado para Número de Slide 3"/>
          <p:cNvSpPr/>
          <p:nvPr/>
        </p:nvSpPr>
        <p:spPr>
          <a:xfrm>
            <a:off x="3921120" y="8745480"/>
            <a:ext cx="2998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34E4-CAAA-489E-8638-6DA35E297B7C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Espaço Reservado para Número de Slide 3"/>
          <p:cNvSpPr/>
          <p:nvPr/>
        </p:nvSpPr>
        <p:spPr>
          <a:xfrm>
            <a:off x="3921120" y="8745480"/>
            <a:ext cx="2998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D82E-0C26-45F9-927D-3D9036EEDFCA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Espaço Reservado para Número de Slide 3"/>
          <p:cNvSpPr/>
          <p:nvPr/>
        </p:nvSpPr>
        <p:spPr>
          <a:xfrm>
            <a:off x="3921120" y="8745480"/>
            <a:ext cx="2998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1C95-2721-4094-A9DB-47A272BC6C7D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Espaço Reservado para Número de Slide 3"/>
          <p:cNvSpPr/>
          <p:nvPr/>
        </p:nvSpPr>
        <p:spPr>
          <a:xfrm>
            <a:off x="3921120" y="8745480"/>
            <a:ext cx="2998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5AC3-1FD5-49CA-81BB-29647BC6622F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Espaço Reservado para Número de Slide 3"/>
          <p:cNvSpPr/>
          <p:nvPr/>
        </p:nvSpPr>
        <p:spPr>
          <a:xfrm>
            <a:off x="3921120" y="8745480"/>
            <a:ext cx="2998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7F34-4801-4193-A438-F79F99F2B863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8EA68-8956-48D4-B9A8-9B7113A0F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28E1-5132-4327-9343-0039EEDBAFC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176F8F-5F0B-4567-B420-B1E204F3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D7FFC4-5D40-4B50-9DC3-DD2378D5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DE2289-2FDB-42AE-8938-484C4F9F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174CA8-6649-451C-AE5D-86338483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2B2133-0A75-44AD-9527-6D74E4F6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A3812A-3EF4-4346-A269-EA9C5495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DEA9C7-BCC7-4FCD-A302-E71127FF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F43419-316A-4590-9AD6-ACE3A8E8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D77631-C1C8-4531-B1A0-FC448840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9BDEAA-C3F4-4ABF-866D-FD47F693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BC7E-3585-48ED-9423-EEB40C5A069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451A1A-D1E0-4BB1-99B7-C86559E8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326621-97E0-44BC-99CD-BCA883F9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958742-0A58-45BF-AE8E-BFB98F45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8457B8-D985-4D18-AF46-FE46D4DA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77B15-D843-4FDD-9BF6-3B2AF6FF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F2433F-56D5-4A72-B18C-28DA7B48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42F697-FFF9-4A89-93B4-A7C43B5D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E1B511-9B4F-4870-BEC9-3BAFC2BE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86C9ED-4400-458F-A17B-E1BA0AED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82134F-510C-4135-A4D8-497E5DCB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5CA1-0059-4624-91D0-0DD4BEBB7B1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065815-AE97-4F82-A6A0-211C9458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B1575A-AF6D-4FCD-8DF9-49C7C8F1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EBD2A8-EA70-4E5C-866C-801040F0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B43F65-EDCA-4545-BFEB-BF882E6B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DD4A46-C5B4-4614-B8C8-A4EB8234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A38B27-8225-45B5-8A92-907E1A84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2DC1EE-6039-4F1D-812F-B2A6E004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E10626-438F-42F1-A907-11CB54C6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67068D-E8E2-43FF-B3C9-FA86D882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B4667C-8223-4A7E-8423-8A216CBA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89C36-A8BC-4353-8771-FB992F4D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C8867A-BF23-44A0-B4EA-8274A4A1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B84FAF-CA63-4028-BA78-CC38AF42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7F0BA4-3233-4FDC-9C7E-51C03220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38764D-8114-4A4D-9F91-A2BDC761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55F65-7432-4E91-813C-C70C5CC9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0382D6-B63C-404D-9883-F17D06E6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D4E67C-E6AA-43A2-9059-871DB8DF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0B4C4-A4DD-46D2-A041-DABA1200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3DC3B-D864-454C-9C13-6ED44775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C6B68E-EB5A-40D6-9BDB-85F30238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A3204-DCA4-4652-8CCF-39F8EEB1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B2523C-9C19-4527-AC1E-C1FF323D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D8917C-2A5F-4317-8F28-B1D6CC6D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86102F-2E05-4E5F-BFAB-3CA210F9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E13655-F36D-41D4-9297-D940DF8C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C7A009-BAC8-4EA2-976B-58BBB6E8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40B52E-35E9-4E97-BC25-00A3BE00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168B8C-FB3D-428E-927A-A22E7073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D2E945-AA8B-4432-B861-5252D378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6FCFC7-98C9-4B3E-B8B4-7F229345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0AEBEC-9EEA-4E7F-B27D-81B62E50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59651-8EC3-4FE3-BC90-46EA94FF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B578FE-04AF-44FA-881F-3180F886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C21C4F2-4CF2-4271-859D-8D469A4B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137FC50-31D7-4CD6-86E0-B8F30ED5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0BB82CC-3953-486F-8EFB-1AB6513A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30D57DF-63F1-4FCE-9C53-FC850022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CDA2CF-5B39-43AE-B5F8-4B51BFA3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3FF544-2EA8-4267-BA20-156765FE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8311D-89D1-4506-A1A6-1DE7460A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9D0D4-EF3F-4E4D-91A5-07EB41AA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CB0AB-5B92-4AD3-85EB-231CE530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945D6-DFDB-4278-B5E8-BFDC8718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7F2D-3692-44C2-B256-42D0FEB7A4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C56A7-14C6-4CC5-972D-40BBAB53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58542-62BD-41D2-A875-7B6076A9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CBACC-015D-46CC-BAA9-938D2818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3EDC0-DA46-4A39-B6DF-7DCF36ED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59310-3F6B-4AF2-B515-F448B3EB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422B7B-83E6-4998-8757-C3AFFE99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B591A2-6F11-48F6-812F-3081073F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208387-D7D3-4F9B-B8F9-9F8D6D0A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945D74-8211-4E45-91CB-655539BF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2129E0-5EC1-49D2-829B-35DE42A2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3D2A4-917A-4BC5-9924-8DDECB8524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C45206-DD6F-4B97-968E-D59F5B11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CF2252-D5C8-478D-A302-8DDC4A15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85BAD8-78E3-49C9-8716-F9EFEA13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38A52E-80F6-4539-A9E3-54153022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FD7B8B-1BBD-4674-8348-81C0464F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FA35E0-9263-4BC2-BBF5-D239413F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5BE92E-17D5-4720-904D-AB4A45E7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7680BE-5D45-44F4-AB51-A01909AD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CBBA71-AD38-47D4-AAC8-1C77C384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322B3F-F6F2-4B86-8BFF-DFA9171E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C0A65-F458-4FAD-9288-480FC9B49DD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A91056-8419-4F97-920F-2A701775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18980B-5996-4597-B718-9618420D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0DC638-BAD1-4185-A70C-AF5C80D6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7769A7-ABF7-4129-840A-3B229C22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6B2381-1C61-4144-BFCB-14B99CA6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379197-826A-445E-B3A1-E77F460C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95E539-2F3F-435E-814E-2F59A1AE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32321B-7A10-40DC-8FC0-2F2EB0DA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108CE7-DE27-492C-9769-488DEEA5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AB6397-32C5-48B5-8ED8-B0636F23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FFD60-A311-4525-8529-1B496E2CE02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6ACC85-85F3-4330-B320-F26C6597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B6B83F-661B-443F-9BC6-7A424AF0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FCF51C-7519-44B7-8906-47741B21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207265-3F33-4392-BC4C-E2F96604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E8A41E-586A-46AC-A3F2-32F8CAD7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A3649C-9E5F-4164-8FF0-D9FC71C8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490490-6843-4052-85FD-6D4BFFCB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EAF57D-7F23-4B96-B6A4-166DCF4A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32EFBF-B698-463C-9753-C3F8360C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5F0385-5EAF-4252-ABC7-A8580602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6DF9-3FE8-4368-B432-A2D2D6C0792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F2FE27-6CC5-4100-A471-5F403083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990622-1766-4348-8138-E135C82A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5DB0FB-B207-4E5F-931E-C65C7C53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E9D587-0070-4C97-A3E3-CDE5D0BC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B353F7-7CD0-4FA0-A86F-C8CAC3D5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2CFE05-4D84-49F9-874A-1E46EF96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363056-41E0-4248-817B-1D85B2DB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1E0333-7740-4DAE-A3B9-DEF91332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63575F-089F-4C0D-903A-299411B5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5CBFB5-D6B8-44EE-845F-4949DE58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E852-68BF-46F6-A2F2-0EA591053BC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FFD95F-B9CE-458A-B73E-49D84415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E5BBBD-922C-4ABF-B829-CCBB4D5C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9E8D1B-AD4B-4C28-B9E0-205BEB61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9809C7-6153-4682-8842-715F7459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EECFE7-E49A-4D10-80A9-3F100059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BB1AEB-E7FA-41AF-9BC0-2F877797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52BB48-806A-4763-9E66-89FE06B8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B8BBC8-A91A-44DF-8354-DC069C49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380A65-3C35-4783-B781-2B5D3881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56C260-3792-4CFC-A06E-39C8390B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C950-F3B0-4E99-BF95-D9FB3C62652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34ECD5-ED98-4A2A-918B-F6AC31FA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9F277E-5CDB-43EA-9A52-B061409E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E8AD23-6DCE-40FB-ABC3-3D19D55A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B2F80C-C052-481B-80DD-F95E863B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5D52DC-2532-48BC-9A54-3C7060D6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256B4D-3926-4D47-815C-00DCFA3E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CEDF98-3654-4B57-B2C8-1CCF2E91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E64932-9D4D-432A-9324-E830C729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4643A0-1A99-45F9-99A1-14AC2ED4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4FB006-01DA-4B57-B459-C8D8A4C1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36948-4ADE-4A36-BC67-54CB08095CB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1AF5A7-3976-463C-9A5C-897B139B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E5CE10-7848-4052-AE1B-852EDEC6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C9EA38-9CCD-4D24-BA29-5A048820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CA2E98-27F7-4C25-9350-AB21F66B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72D93A-95C8-4A65-B31A-140DF19D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CD5C05-3235-45E2-A34A-24A75290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2AFC0D-E3EB-4CAC-8B85-7F4E1871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B3378-CA14-4D35-9414-47B4D839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00959F-FAFC-4778-82D8-3D23FB3E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17FD5D-3C4E-4242-B738-D04F1B3C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337C-4912-4550-B963-313C6678A0D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3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378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379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8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B32E-B4E7-4FCE-B140-FD8A8777DB5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20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421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pic>
        <p:nvPicPr>
          <p:cNvPr id="422" name="Imagem 7" descr="template_ppt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"/>
          <p:cNvPicPr/>
          <p:nvPr/>
        </p:nvPicPr>
        <p:blipFill>
          <a:blip r:embed="rId6"/>
          <a:stretch/>
        </p:blipFill>
        <p:spPr>
          <a:xfrm>
            <a:off x="404640" y="236520"/>
            <a:ext cx="2667240" cy="536760"/>
          </a:xfrm>
          <a:prstGeom prst="rect">
            <a:avLst/>
          </a:prstGeom>
          <a:ln w="0">
            <a:noFill/>
          </a:ln>
        </p:spPr>
      </p:pic>
      <p:pic>
        <p:nvPicPr>
          <p:cNvPr id="424" name="Imagem 9" descr="malha_construtiva.jpg"/>
          <p:cNvPicPr/>
          <p:nvPr/>
        </p:nvPicPr>
        <p:blipFill>
          <a:blip r:embed="rId7"/>
          <a:stretch/>
        </p:blipFill>
        <p:spPr>
          <a:xfrm>
            <a:off x="7000920" y="357120"/>
            <a:ext cx="1852560" cy="4636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3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838E-75EC-4C4B-A768-A94468BD8F1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65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466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34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1E4C-5306-4198-AB37-03E57F8A397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507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508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37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837E-B00B-49BC-A84D-4687908CC38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69C7-5010-4D4B-ABF3-4E82CA93AB9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82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83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7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7A10-91A8-42C0-9256-94799AB78AF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124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125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0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7E4E-A49C-4496-8687-C597278905E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168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169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3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3241-E1E8-4375-9100-8DE068AD1AF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10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211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6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C2CB-E1ED-45C0-A118-4811B21143E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52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253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9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7DAB-5DB3-4BE3-B543-B7D3213A784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94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295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2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84A1-5ABE-49B4-B327-8B3F508B2CD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336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337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5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D80C-3DF9-4F35-8C4A-B36DD43392A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Imagem 9" descr=""/>
          <p:cNvPicPr/>
          <p:nvPr/>
        </p:nvPicPr>
        <p:blipFill>
          <a:blip r:embed="rId1"/>
          <a:stretch/>
        </p:blipFill>
        <p:spPr>
          <a:xfrm>
            <a:off x="4680" y="-3240"/>
            <a:ext cx="9139320" cy="6861240"/>
          </a:xfrm>
          <a:prstGeom prst="rect">
            <a:avLst/>
          </a:prstGeom>
          <a:ln w="0">
            <a:noFill/>
          </a:ln>
        </p:spPr>
      </p:pic>
      <p:sp>
        <p:nvSpPr>
          <p:cNvPr id="556" name="Retângulo 3"/>
          <p:cNvSpPr/>
          <p:nvPr/>
        </p:nvSpPr>
        <p:spPr>
          <a:xfrm>
            <a:off x="468360" y="2817720"/>
            <a:ext cx="8136000" cy="2482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CaixaDeTexto 2"/>
          <p:cNvSpPr/>
          <p:nvPr/>
        </p:nvSpPr>
        <p:spPr>
          <a:xfrm>
            <a:off x="2484360" y="2857680"/>
            <a:ext cx="58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99"/>
                </a:solidFill>
                <a:latin typeface="Calibri"/>
              </a:rPr>
              <a:t>Fortalecimento</a:t>
            </a:r>
            <a:br>
              <a:rPr sz="4000"/>
            </a:br>
            <a:r>
              <a:rPr b="1" lang="pt-BR" sz="4000" spc="-1" strike="noStrike">
                <a:solidFill>
                  <a:srgbClr val="006699"/>
                </a:solidFill>
                <a:latin typeface="Calibri"/>
              </a:rPr>
              <a:t>da integração da saúde pública e suplement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CaixaDeTexto 1"/>
          <p:cNvSpPr/>
          <p:nvPr/>
        </p:nvSpPr>
        <p:spPr>
          <a:xfrm>
            <a:off x="4329000" y="4797360"/>
            <a:ext cx="39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262626"/>
                </a:solidFill>
                <a:latin typeface="Calibri"/>
              </a:rPr>
              <a:t>Rio de Janeiro, 16 de dezembro de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-36360" y="259920"/>
            <a:ext cx="91454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apa do Ressarcimento: Natureza do Prestador de serviç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Gráfico 4" descr=""/>
          <p:cNvPicPr/>
          <p:nvPr/>
        </p:nvPicPr>
        <p:blipFill>
          <a:blip r:embed="rId1"/>
          <a:stretch/>
        </p:blipFill>
        <p:spPr>
          <a:xfrm>
            <a:off x="360360" y="1700280"/>
            <a:ext cx="8350200" cy="4395600"/>
          </a:xfrm>
          <a:prstGeom prst="rect">
            <a:avLst/>
          </a:prstGeom>
          <a:ln w="0">
            <a:noFill/>
          </a:ln>
        </p:spPr>
      </p:pic>
      <p:sp>
        <p:nvSpPr>
          <p:cNvPr id="594" name="Retângulo 1"/>
          <p:cNvSpPr/>
          <p:nvPr/>
        </p:nvSpPr>
        <p:spPr>
          <a:xfrm>
            <a:off x="250920" y="98100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 maioria das notificações ocorreu em </a:t>
            </a:r>
            <a:r>
              <a:rPr b="1" lang="pt-BR" sz="2200" spc="-1" strike="noStrike">
                <a:solidFill>
                  <a:srgbClr val="376092"/>
                </a:solidFill>
                <a:latin typeface="Calibri"/>
              </a:rPr>
              <a:t>entidades beneficentes sem fins lucrativos</a:t>
            </a:r>
            <a:r>
              <a:rPr b="0" lang="pt-BR" sz="22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seguido de </a:t>
            </a:r>
            <a:r>
              <a:rPr b="1" lang="pt-BR" sz="2200" spc="-1" strike="noStrike">
                <a:solidFill>
                  <a:srgbClr val="376092"/>
                </a:solidFill>
                <a:latin typeface="Calibri"/>
              </a:rPr>
              <a:t>administração direta da saú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tângulo 1"/>
          <p:cNvSpPr/>
          <p:nvPr/>
        </p:nvSpPr>
        <p:spPr>
          <a:xfrm>
            <a:off x="0" y="1052640"/>
            <a:ext cx="3348000" cy="223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89298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apa do Ressarcimento: Distribuição Geográf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Imagem 5" descr=""/>
          <p:cNvPicPr/>
          <p:nvPr/>
        </p:nvPicPr>
        <p:blipFill>
          <a:blip r:embed="rId1"/>
          <a:stretch/>
        </p:blipFill>
        <p:spPr>
          <a:xfrm>
            <a:off x="3419640" y="1197000"/>
            <a:ext cx="5689440" cy="5472000"/>
          </a:xfrm>
          <a:prstGeom prst="rect">
            <a:avLst/>
          </a:prstGeom>
          <a:ln w="0">
            <a:noFill/>
          </a:ln>
        </p:spPr>
      </p:pic>
      <p:pic>
        <p:nvPicPr>
          <p:cNvPr id="598" name="Imagem 6" descr=""/>
          <p:cNvPicPr/>
          <p:nvPr/>
        </p:nvPicPr>
        <p:blipFill>
          <a:blip r:embed="rId2"/>
          <a:srcRect l="19085" t="0" r="0" b="0"/>
          <a:stretch/>
        </p:blipFill>
        <p:spPr>
          <a:xfrm>
            <a:off x="250920" y="3933720"/>
            <a:ext cx="2604960" cy="1870200"/>
          </a:xfrm>
          <a:prstGeom prst="rect">
            <a:avLst/>
          </a:prstGeom>
          <a:ln w="0">
            <a:noFill/>
          </a:ln>
        </p:spPr>
      </p:pic>
      <p:sp>
        <p:nvSpPr>
          <p:cNvPr id="599" name="CaixaDeTexto 2"/>
          <p:cNvSpPr/>
          <p:nvPr/>
        </p:nvSpPr>
        <p:spPr>
          <a:xfrm>
            <a:off x="250920" y="1197000"/>
            <a:ext cx="33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istribuição das AIHs notificadas por UF de 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residência do beneficiário</a:t>
            </a:r>
            <a:r>
              <a:rPr b="0" lang="pt-BR" sz="2000" spc="-1" strike="noStrike">
                <a:solidFill>
                  <a:srgbClr val="006699"/>
                </a:solidFill>
                <a:latin typeface="Calibri"/>
              </a:rPr>
              <a:t>,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onderada pelo total de beneficiários com cobertura hospitalar (x 1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tângulo 5"/>
          <p:cNvSpPr/>
          <p:nvPr/>
        </p:nvSpPr>
        <p:spPr>
          <a:xfrm>
            <a:off x="0" y="1052640"/>
            <a:ext cx="3348000" cy="2392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89298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apa do Ressarcimento: Distribuição Geográf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2" name="Imagem 5" descr=""/>
          <p:cNvPicPr/>
          <p:nvPr/>
        </p:nvPicPr>
        <p:blipFill>
          <a:blip r:embed="rId1"/>
          <a:stretch/>
        </p:blipFill>
        <p:spPr>
          <a:xfrm>
            <a:off x="3419640" y="1247760"/>
            <a:ext cx="5630760" cy="5421240"/>
          </a:xfrm>
          <a:prstGeom prst="rect">
            <a:avLst/>
          </a:prstGeom>
          <a:ln w="0">
            <a:noFill/>
          </a:ln>
        </p:spPr>
      </p:pic>
      <p:sp>
        <p:nvSpPr>
          <p:cNvPr id="603" name="CaixaDeTexto 2"/>
          <p:cNvSpPr/>
          <p:nvPr/>
        </p:nvSpPr>
        <p:spPr>
          <a:xfrm>
            <a:off x="250920" y="1125360"/>
            <a:ext cx="273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istribuição percentual das AIHs notificadas por 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UF do prestador de serviço</a:t>
            </a:r>
            <a:r>
              <a:rPr b="0" lang="pt-BR" sz="2000" spc="-1" strike="noStrike">
                <a:solidFill>
                  <a:srgbClr val="006699"/>
                </a:solidFill>
                <a:latin typeface="Calibri"/>
              </a:rPr>
              <a:t>,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onderada pelo total de beneficiários com cobertura hospita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Imagem 6" descr=""/>
          <p:cNvPicPr/>
          <p:nvPr/>
        </p:nvPicPr>
        <p:blipFill>
          <a:blip r:embed="rId2"/>
          <a:stretch/>
        </p:blipFill>
        <p:spPr>
          <a:xfrm>
            <a:off x="108000" y="3971880"/>
            <a:ext cx="257004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89298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apa do Ressarcimento: Distribuição Geográf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Retângulo 2"/>
          <p:cNvSpPr/>
          <p:nvPr/>
        </p:nvSpPr>
        <p:spPr>
          <a:xfrm>
            <a:off x="973080" y="4789440"/>
            <a:ext cx="35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Os estados com 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maior número</a:t>
            </a:r>
            <a:br>
              <a:rPr sz="2000"/>
            </a:b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de notificações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, em número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bsoluto,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340000" y="2084400"/>
          <a:ext cx="4464000" cy="2208240"/>
        </p:xfrm>
        <a:graphic>
          <a:graphicData uri="http://schemas.openxmlformats.org/drawingml/2006/table">
            <a:tbl>
              <a:tblPr/>
              <a:tblGrid>
                <a:gridCol w="1617480"/>
                <a:gridCol w="1911600"/>
                <a:gridCol w="934920"/>
              </a:tblGrid>
              <a:tr h="315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H NOTIFIC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15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de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0.9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5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rde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.4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5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.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5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ntro-Oe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.5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5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5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4.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08" name="CaixaDeTexto 6"/>
          <p:cNvSpPr/>
          <p:nvPr/>
        </p:nvSpPr>
        <p:spPr>
          <a:xfrm>
            <a:off x="250920" y="119844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Atendimentos por região (segundo a UF do prestador de serviço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- Números absolutos -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tângulo 1"/>
          <p:cNvSpPr/>
          <p:nvPr/>
        </p:nvSpPr>
        <p:spPr>
          <a:xfrm>
            <a:off x="5003640" y="4543560"/>
            <a:ext cx="338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Arial"/>
              </a:rPr>
              <a:t>São Paulo (43,8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Arial"/>
              </a:rPr>
              <a:t>Minas Gerais (9,8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Arial"/>
              </a:rPr>
              <a:t>Rio de Janeiro (7,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Arial"/>
              </a:rPr>
              <a:t>Paraná (5,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Arial"/>
              </a:rPr>
              <a:t>Rio Grande do Sul (4,3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Divisa 3"/>
          <p:cNvSpPr/>
          <p:nvPr/>
        </p:nvSpPr>
        <p:spPr>
          <a:xfrm>
            <a:off x="4572000" y="4869000"/>
            <a:ext cx="287280" cy="792000"/>
          </a:xfrm>
          <a:custGeom>
            <a:avLst/>
            <a:gdLst>
              <a:gd name="textAreaLeft" fmla="*/ 0 w 287280"/>
              <a:gd name="textAreaRight" fmla="*/ 287640 w 287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89298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apa do Ressarcimento: Distribuição geográf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CaixaDeTexto 1"/>
          <p:cNvSpPr/>
          <p:nvPr/>
        </p:nvSpPr>
        <p:spPr>
          <a:xfrm>
            <a:off x="250920" y="112536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Quantidade total de AIHs e percentual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ponderado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 por beneficiário,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gundo a UF do prestador de serviç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Gráfico 6" descr=""/>
          <p:cNvPicPr/>
          <p:nvPr/>
        </p:nvPicPr>
        <p:blipFill>
          <a:blip r:embed="rId1"/>
          <a:stretch/>
        </p:blipFill>
        <p:spPr>
          <a:xfrm>
            <a:off x="249120" y="1865160"/>
            <a:ext cx="878544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apa do Ressarcimento: Deslocamentos entre U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Retângulo 4"/>
          <p:cNvSpPr/>
          <p:nvPr/>
        </p:nvSpPr>
        <p:spPr>
          <a:xfrm>
            <a:off x="250920" y="1411200"/>
            <a:ext cx="5476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15 estado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buscam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SÃO PAULO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mo destino secundário dos atend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SÃO PAULO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é o estado com maior procura inter-regional: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94,7% das pessoas</a:t>
            </a:r>
            <a:r>
              <a:rPr b="0" lang="pt-BR" sz="20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que buscam o SUS o fazem dentro do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m segundo lugar vêm os estados do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RIO GRANDE DO SUL</a:t>
            </a:r>
            <a:r>
              <a:rPr b="0" lang="pt-BR" sz="20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m 93,5% e em terceiro,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PARANÁ</a:t>
            </a:r>
            <a:r>
              <a:rPr b="0" lang="pt-BR" sz="20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m 92,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Imagem 1" descr=""/>
          <p:cNvPicPr/>
          <p:nvPr/>
        </p:nvPicPr>
        <p:blipFill>
          <a:blip r:embed="rId1"/>
          <a:stretch/>
        </p:blipFill>
        <p:spPr>
          <a:xfrm>
            <a:off x="5967360" y="1189080"/>
            <a:ext cx="296856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tângulo 7"/>
          <p:cNvSpPr/>
          <p:nvPr/>
        </p:nvSpPr>
        <p:spPr>
          <a:xfrm>
            <a:off x="250920" y="1125360"/>
            <a:ext cx="86421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99"/>
                </a:solidFill>
                <a:latin typeface="Calibri"/>
                <a:ea typeface="MS PGothic"/>
              </a:rPr>
              <a:t>R$ </a:t>
            </a:r>
            <a:r>
              <a:rPr b="1" lang="pt-BR" sz="1800" spc="-1" strike="noStrike">
                <a:solidFill>
                  <a:srgbClr val="006699"/>
                </a:solidFill>
                <a:latin typeface="Calibri"/>
              </a:rPr>
              <a:t>335,74 milhões </a:t>
            </a:r>
            <a:r>
              <a:rPr b="0" lang="pt-BR" sz="1800" spc="-1" strike="noStrike">
                <a:solidFill>
                  <a:srgbClr val="0d0d0d"/>
                </a:solidFill>
                <a:latin typeface="Calibri"/>
              </a:rPr>
              <a:t>arrecadados pelo ressarcimento de janeiro a novembro de 2014 - </a:t>
            </a:r>
            <a:r>
              <a:rPr b="1" lang="pt-BR" sz="1800" spc="-1" strike="noStrike">
                <a:solidFill>
                  <a:srgbClr val="006699"/>
                </a:solidFill>
                <a:latin typeface="Calibri"/>
              </a:rPr>
              <a:t>a</a:t>
            </a:r>
            <a:r>
              <a:rPr b="1" lang="pt-BR" sz="1800" spc="-1" strike="noStrike">
                <a:solidFill>
                  <a:srgbClr val="006699"/>
                </a:solidFill>
                <a:latin typeface="Calibri"/>
                <a:ea typeface="MS PGothic"/>
              </a:rPr>
              <a:t>umento de 82% </a:t>
            </a:r>
            <a:r>
              <a:rPr b="0" lang="pt-BR" sz="1800" spc="-1" strike="noStrike">
                <a:solidFill>
                  <a:srgbClr val="0d0d0d"/>
                </a:solidFill>
                <a:latin typeface="Calibri"/>
                <a:ea typeface="MS PGothic"/>
              </a:rPr>
              <a:t>em relação ao valor total arrecadado no ano inteiro de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99"/>
                </a:solidFill>
                <a:latin typeface="Calibri"/>
                <a:ea typeface="MS PGothic"/>
              </a:rPr>
              <a:t>R$ 673,66 </a:t>
            </a:r>
            <a:r>
              <a:rPr b="1" lang="pt-BR" sz="1800" spc="-1" strike="noStrike">
                <a:solidFill>
                  <a:srgbClr val="376092"/>
                </a:solidFill>
                <a:latin typeface="Calibri"/>
                <a:ea typeface="MS PGothic"/>
              </a:rPr>
              <a:t>milhões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MS PGothic"/>
              </a:rPr>
              <a:t>arrecadados de 2011 a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tângulo 2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Valores arrecadados no ressarc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Gráfico 7" descr=""/>
          <p:cNvPicPr/>
          <p:nvPr/>
        </p:nvPicPr>
        <p:blipFill>
          <a:blip r:embed="rId1"/>
          <a:stretch/>
        </p:blipFill>
        <p:spPr>
          <a:xfrm>
            <a:off x="633240" y="2276640"/>
            <a:ext cx="7877520" cy="401796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4"/>
          <p:cNvSpPr/>
          <p:nvPr/>
        </p:nvSpPr>
        <p:spPr>
          <a:xfrm>
            <a:off x="8388360" y="2421000"/>
            <a:ext cx="6159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304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*até</a:t>
            </a:r>
            <a:br>
              <a:rPr sz="900"/>
            </a:b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vemb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CaixaDeTexto 9"/>
          <p:cNvSpPr/>
          <p:nvPr/>
        </p:nvSpPr>
        <p:spPr>
          <a:xfrm>
            <a:off x="1411920" y="2133720"/>
            <a:ext cx="402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Receitas totais arrecadadas de 2000 a 2014 – Valor (R$ milhõ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tângulo 4"/>
          <p:cNvSpPr/>
          <p:nvPr/>
        </p:nvSpPr>
        <p:spPr>
          <a:xfrm>
            <a:off x="0" y="252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Valores encaminhados à dívida 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aixaDeTexto 1"/>
          <p:cNvSpPr/>
          <p:nvPr/>
        </p:nvSpPr>
        <p:spPr>
          <a:xfrm>
            <a:off x="324000" y="1125360"/>
            <a:ext cx="84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R$ 189,64 milhões </a:t>
            </a:r>
            <a:r>
              <a:rPr b="0" lang="pt-BR" sz="2000" spc="-1" strike="noStrike">
                <a:solidFill>
                  <a:srgbClr val="376092"/>
                </a:solidFill>
                <a:latin typeface="Calibri"/>
              </a:rPr>
              <a:t>encaminhados para inscrição em dívida ativa de janeiro a novembro de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R$ 510,71 milhões </a:t>
            </a:r>
            <a:r>
              <a:rPr b="0" lang="pt-BR" sz="2000" spc="-1" strike="noStrike">
                <a:solidFill>
                  <a:srgbClr val="376092"/>
                </a:solidFill>
                <a:latin typeface="Calibri"/>
              </a:rPr>
              <a:t>encaminhados de janeiro de 2011 a novembro de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Gráfico 5" descr=""/>
          <p:cNvPicPr/>
          <p:nvPr/>
        </p:nvPicPr>
        <p:blipFill>
          <a:blip r:embed="rId1"/>
          <a:stretch/>
        </p:blipFill>
        <p:spPr>
          <a:xfrm>
            <a:off x="596880" y="2441520"/>
            <a:ext cx="8094600" cy="364500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4"/>
          <p:cNvSpPr/>
          <p:nvPr/>
        </p:nvSpPr>
        <p:spPr>
          <a:xfrm>
            <a:off x="8388360" y="2546280"/>
            <a:ext cx="590400" cy="3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304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* Até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novemb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CaixaDeTexto 7"/>
          <p:cNvSpPr/>
          <p:nvPr/>
        </p:nvSpPr>
        <p:spPr>
          <a:xfrm>
            <a:off x="1042920" y="2205000"/>
            <a:ext cx="734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Inscrição Dívida Ativa 2006 a 2014 – Valor total enviado no período (R$ milhõ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1"/>
          <p:cNvSpPr/>
          <p:nvPr/>
        </p:nvSpPr>
        <p:spPr>
          <a:xfrm>
            <a:off x="0" y="25884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6699"/>
                </a:solidFill>
                <a:latin typeface="Calibri"/>
                <a:ea typeface="Microsoft YaHei"/>
              </a:rPr>
              <a:t>Melhoria do processo de ressarc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"/>
          <p:cNvSpPr/>
          <p:nvPr/>
        </p:nvSpPr>
        <p:spPr>
          <a:xfrm>
            <a:off x="250920" y="1989000"/>
            <a:ext cx="8642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Sistema online para a </a:t>
            </a:r>
            <a:r>
              <a:rPr b="1" lang="pt-BR" sz="2200" spc="-1" strike="noStrike">
                <a:solidFill>
                  <a:srgbClr val="376092"/>
                </a:solidFill>
                <a:latin typeface="Calibri"/>
                <a:ea typeface="Microsoft YaHei"/>
              </a:rPr>
              <a:t>tramitação digital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de pedidos de impugnação e recurso dos processos de ressarcimento ao S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ermite que as operadoras possam enviar eletronicamente os documentos, dando mais </a:t>
            </a:r>
            <a:r>
              <a:rPr b="1" lang="pt-BR" sz="2200" spc="-1" strike="noStrike">
                <a:solidFill>
                  <a:srgbClr val="376092"/>
                </a:solidFill>
                <a:latin typeface="Calibri"/>
                <a:ea typeface="Microsoft YaHei"/>
              </a:rPr>
              <a:t>agilidade e melhorando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o processo de ressarcimento, com </a:t>
            </a:r>
            <a:r>
              <a:rPr b="1" lang="pt-BR" sz="2200" spc="-1" strike="noStrike">
                <a:solidFill>
                  <a:srgbClr val="376092"/>
                </a:solidFill>
                <a:latin typeface="Calibri"/>
                <a:ea typeface="Microsoft YaHei"/>
              </a:rPr>
              <a:t>maior controle e redução de cus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A partir de </a:t>
            </a:r>
            <a:r>
              <a:rPr b="1" lang="pt-BR" sz="2200" spc="-1" strike="noStrike">
                <a:solidFill>
                  <a:srgbClr val="376092"/>
                </a:solidFill>
                <a:latin typeface="Calibri"/>
                <a:ea typeface="Microsoft YaHei"/>
              </a:rPr>
              <a:t>6 janeiro de 2015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, todas as impugnações e recursos deverão ser encaminhadas exclusivamente pelo PERS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533520" y="651996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83475625-7684-4B3E-9305-B89D5AA824A5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CaixaDeTexto 1"/>
          <p:cNvSpPr/>
          <p:nvPr/>
        </p:nvSpPr>
        <p:spPr>
          <a:xfrm>
            <a:off x="0" y="1311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PERSUS – Protocolo Eletrônico do Ressarcimento ao 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Cartão Nacional de Saúde para to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94920" y="1773360"/>
            <a:ext cx="777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aplicativo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CADSUS STAND ALONE (Datasus/MS)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rá usado pela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peradoras para atribuir o número do CNS a todos os beneficiário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 planos de saú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tângulo 1"/>
          <p:cNvSpPr/>
          <p:nvPr/>
        </p:nvSpPr>
        <p:spPr>
          <a:xfrm>
            <a:off x="395280" y="3141720"/>
            <a:ext cx="5545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m a ferramenta, a emissão dos números pelas operadoras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será feita em lote</a:t>
            </a:r>
            <a:r>
              <a:rPr b="0" lang="pt-BR" sz="20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gilizando o pro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medida ajudará a construir uma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base nacional de informações</a:t>
            </a:r>
            <a:r>
              <a:rPr b="0" lang="pt-BR" sz="20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primorando a gestão da saú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upo 8"/>
          <p:cNvGrpSpPr/>
          <p:nvPr/>
        </p:nvGrpSpPr>
        <p:grpSpPr>
          <a:xfrm>
            <a:off x="5848200" y="2421000"/>
            <a:ext cx="3225960" cy="3130560"/>
            <a:chOff x="5848200" y="2421000"/>
            <a:chExt cx="3225960" cy="3130560"/>
          </a:xfrm>
        </p:grpSpPr>
        <p:pic>
          <p:nvPicPr>
            <p:cNvPr id="635" name="Picture 7" descr="P:\Chefia de Gabinete\Gerência de Comunicação Social\Comunicacao Social\Trabalhos\2014\SAS 0016_2014 - PPTs Avulsos\ppt_ressarcimento_ao_sus_2014\ppt_ressarcimento_sus_novembro_2014\imagens para ppt\459886461.jpg"/>
            <p:cNvPicPr/>
            <p:nvPr/>
          </p:nvPicPr>
          <p:blipFill>
            <a:blip r:embed="rId1"/>
            <a:srcRect l="11061" t="7946" r="7562" b="5701"/>
            <a:stretch/>
          </p:blipFill>
          <p:spPr>
            <a:xfrm>
              <a:off x="5848200" y="2421000"/>
              <a:ext cx="3225960" cy="31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CaixaDeTexto 7"/>
            <p:cNvSpPr/>
            <p:nvPr/>
          </p:nvSpPr>
          <p:spPr>
            <a:xfrm rot="20992200">
              <a:off x="6279840" y="2890800"/>
              <a:ext cx="2244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262626"/>
                  </a:solidFill>
                  <a:latin typeface="Arial"/>
                </a:rPr>
                <a:t>As operadoras terão </a:t>
              </a:r>
              <a:r>
                <a:rPr b="1" lang="pt-BR" sz="2000" spc="-1" strike="noStrike">
                  <a:solidFill>
                    <a:srgbClr val="006699"/>
                  </a:solidFill>
                  <a:latin typeface="Arial"/>
                </a:rPr>
                <a:t>6 meses</a:t>
              </a:r>
              <a:br>
                <a:rPr sz="2000"/>
              </a:br>
              <a:r>
                <a:rPr b="0" lang="pt-BR" sz="2000" spc="-1" strike="noStrike">
                  <a:solidFill>
                    <a:srgbClr val="262626"/>
                  </a:solidFill>
                  <a:latin typeface="Arial"/>
                </a:rPr>
                <a:t>para informar</a:t>
              </a:r>
              <a:br>
                <a:rPr sz="2000"/>
              </a:br>
              <a:r>
                <a:rPr b="0" lang="pt-BR" sz="2000" spc="-1" strike="noStrike">
                  <a:solidFill>
                    <a:srgbClr val="262626"/>
                  </a:solidFill>
                  <a:latin typeface="Arial"/>
                </a:rPr>
                <a:t>aos seus beneficiários o número do C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CaixaDeTexto 1"/>
          <p:cNvSpPr/>
          <p:nvPr/>
        </p:nvSpPr>
        <p:spPr>
          <a:xfrm>
            <a:off x="250920" y="1268280"/>
            <a:ext cx="878508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376092"/>
                </a:solidFill>
                <a:latin typeface="Calibri"/>
              </a:rPr>
              <a:t>1 - MAPA DA UTILIZAÇÃO DO SUS POR BENEFICIÁRIOS DA SAÚDE SUPLEMENTAR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nálise inédita que detalha o perfil dos beneficiários, os procedimentos mais realizados, o número de AIHs por estado e os deslocamentos da procura por serviços dentro do território nacio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376092"/>
                </a:solidFill>
                <a:latin typeface="Calibri"/>
              </a:rPr>
              <a:t>2 - PERSUS – Protocolo Eletrônico do Ressarcimento ao SUS</a:t>
            </a:r>
            <a:r>
              <a:rPr b="0" lang="pt-BR" sz="2100" spc="-1" strike="noStrike">
                <a:solidFill>
                  <a:srgbClr val="376092"/>
                </a:solidFill>
                <a:latin typeface="Calibri"/>
              </a:rPr>
              <a:t>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Novo sistema para tramitação digital de documentos relativos ao processo de ressarci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376092"/>
                </a:solidFill>
                <a:latin typeface="Calibri"/>
              </a:rPr>
              <a:t>3 – Nº DO CARTÃO NACIONAL DE SAÚDE PARA TODOS</a:t>
            </a:r>
            <a:r>
              <a:rPr b="0" lang="pt-BR" sz="2100" spc="-1" strike="noStrike">
                <a:solidFill>
                  <a:srgbClr val="376092"/>
                </a:solidFill>
                <a:latin typeface="Calibri"/>
              </a:rPr>
              <a:t>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arceria com o Ministério da Saúde para agilizar a emissão do número do Cartão Nacional de Saúde para todos os beneficiários de planos de saú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376092"/>
                </a:solidFill>
                <a:latin typeface="Calibri"/>
              </a:rPr>
              <a:t>4 - IDENTIFICAÇÃO PADRONIZADA E COMPROVA</a:t>
            </a:r>
            <a:r>
              <a:rPr b="0" lang="pt-BR" sz="2100" spc="-1" strike="noStrike">
                <a:solidFill>
                  <a:srgbClr val="376092"/>
                </a:solidFill>
                <a:latin typeface="Calibri"/>
              </a:rPr>
              <a:t>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ção para melhorar a informação dos beneficiários sobre o seu plano de saúde e facilitar a comunicação entre a ANS, operadoras e consumi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tângulo 2"/>
          <p:cNvSpPr/>
          <p:nvPr/>
        </p:nvSpPr>
        <p:spPr>
          <a:xfrm>
            <a:off x="0" y="115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edidas para fortalecer a integração</a:t>
            </a:r>
            <a:br>
              <a:rPr sz="2800"/>
            </a:b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da  saúde pública e supleme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elhor identificação de benefici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CaixaDeTexto 1"/>
          <p:cNvSpPr/>
          <p:nvPr/>
        </p:nvSpPr>
        <p:spPr>
          <a:xfrm>
            <a:off x="297720" y="134136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Calibri"/>
              </a:rPr>
              <a:t>Identificação padron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Imagem 2" descr=""/>
          <p:cNvPicPr/>
          <p:nvPr/>
        </p:nvPicPr>
        <p:blipFill>
          <a:blip r:embed="rId1"/>
          <a:srcRect l="20512" t="14884" r="0" b="0"/>
          <a:stretch/>
        </p:blipFill>
        <p:spPr>
          <a:xfrm>
            <a:off x="0" y="2133720"/>
            <a:ext cx="4010040" cy="35478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 txBox="1"/>
          <p:nvPr/>
        </p:nvSpPr>
        <p:spPr>
          <a:xfrm>
            <a:off x="3851280" y="1413000"/>
            <a:ext cx="4680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partir de 2015, as operadoras serão obrigadas a disponibilizar aos beneficiários um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conjunto padronizado de informaçõe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obre o seu plano de saúde: a Identificação Padrão da Saúde Suplement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Picture 7" descr="P:\Chefia de Gabinete\Gerência de Comunicação Social\Comunicacao Social\Trabalhos\2014\SAS 0016_2014 - PPTs Avulsos\ppt_ressarcimento_ao_sus_2014\ppt_ressarcimento_sus_novembro_2014\imagens para ppt\459886461.jpg"/>
          <p:cNvPicPr/>
          <p:nvPr/>
        </p:nvPicPr>
        <p:blipFill>
          <a:blip r:embed="rId2"/>
          <a:srcRect l="11069" t="7948" r="7559" b="5709"/>
          <a:stretch/>
        </p:blipFill>
        <p:spPr>
          <a:xfrm>
            <a:off x="6539040" y="3141720"/>
            <a:ext cx="2604960" cy="2527200"/>
          </a:xfrm>
          <a:prstGeom prst="rect">
            <a:avLst/>
          </a:prstGeom>
          <a:ln w="0">
            <a:noFill/>
          </a:ln>
        </p:spPr>
      </p:pic>
      <p:sp>
        <p:nvSpPr>
          <p:cNvPr id="642" name="CaixaDeTexto 12"/>
          <p:cNvSpPr/>
          <p:nvPr/>
        </p:nvSpPr>
        <p:spPr>
          <a:xfrm rot="20949600">
            <a:off x="6667200" y="3414600"/>
            <a:ext cx="224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operadoras terão </a:t>
            </a:r>
            <a:r>
              <a:rPr b="1" lang="pt-BR" sz="1800" spc="-1" strike="noStrike">
                <a:solidFill>
                  <a:srgbClr val="006699"/>
                </a:solidFill>
                <a:latin typeface="Arial"/>
              </a:rPr>
              <a:t>1 an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informar aos seus beneficiá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informações padroniz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CaixaDeTexto 9"/>
          <p:cNvSpPr/>
          <p:nvPr/>
        </p:nvSpPr>
        <p:spPr>
          <a:xfrm>
            <a:off x="3851280" y="3591000"/>
            <a:ext cx="2735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ação vai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qualificar a identificação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os beneficiários sobre o seu plano de saúd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facilitar a comunicaçã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entr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ANS, operadora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elhor identificação de benefici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94920" y="2133360"/>
            <a:ext cx="66978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s consumidores podem consultar pelo portal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a ANS os seus dados informados pelas operadoras através do sistema </a:t>
            </a:r>
            <a:r>
              <a:rPr b="1" lang="pt-BR" sz="2200" spc="-1" strike="noStrike">
                <a:solidFill>
                  <a:srgbClr val="376092"/>
                </a:solidFill>
                <a:latin typeface="Calibri"/>
              </a:rPr>
              <a:t>COMPRO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elo sistema, os consumidores também podem informar se há algum </a:t>
            </a:r>
            <a:r>
              <a:rPr b="1" lang="pt-BR" sz="2200" spc="-1" strike="noStrike">
                <a:solidFill>
                  <a:srgbClr val="376092"/>
                </a:solidFill>
                <a:latin typeface="Calibri"/>
              </a:rPr>
              <a:t>dado incorreto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que precisa ser corrigido</a:t>
            </a:r>
            <a:r>
              <a:rPr b="1" lang="pt-BR" sz="2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Medida garante ao consumidor </a:t>
            </a:r>
            <a:r>
              <a:rPr b="1" lang="pt-BR" sz="2200" spc="-1" strike="noStrike">
                <a:solidFill>
                  <a:srgbClr val="376092"/>
                </a:solidFill>
                <a:latin typeface="Calibri"/>
              </a:rPr>
              <a:t>acesso à informação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pt-BR" sz="2200" spc="-1" strike="noStrike">
                <a:solidFill>
                  <a:srgbClr val="376092"/>
                </a:solidFill>
                <a:latin typeface="Calibri"/>
              </a:rPr>
              <a:t>mais agilidade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nas consultas aos dados cadastrai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E-mail para esclarecimentos e informações: </a:t>
            </a:r>
            <a:r>
              <a:rPr b="1" lang="pt-BR" sz="2200" spc="-1" strike="noStrike">
                <a:solidFill>
                  <a:srgbClr val="376092"/>
                </a:solidFill>
                <a:latin typeface="Calibri"/>
              </a:rPr>
              <a:t>comprova@ans.gov.b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CaixaDeTexto 1"/>
          <p:cNvSpPr/>
          <p:nvPr/>
        </p:nvSpPr>
        <p:spPr>
          <a:xfrm>
            <a:off x="392760" y="159876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Calibri"/>
              </a:rPr>
              <a:t>COMPR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5" descr="P:\Chefia de Gabinete\Gerência de Comunicação Social\Comunicacao Social\Trabalhos\2014\SAS 0136_2014 - Logotipo para o COMPROVA - Comprovante de dados cadastrais do consumidor\design\logo final\logo_final_50_mm.gif"/>
          <p:cNvPicPr/>
          <p:nvPr/>
        </p:nvPicPr>
        <p:blipFill>
          <a:blip r:embed="rId1"/>
          <a:stretch/>
        </p:blipFill>
        <p:spPr>
          <a:xfrm>
            <a:off x="7218360" y="1457280"/>
            <a:ext cx="138924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198900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6699"/>
                </a:solidFill>
                <a:latin typeface="Calibri"/>
              </a:rPr>
              <a:t>Obrigada!</a:t>
            </a:r>
            <a:br>
              <a:rPr sz="4000"/>
            </a:br>
            <a:br>
              <a:rPr sz="3200"/>
            </a:b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www.ans.gov.br | Disque ANS: 0800 701 96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9" name="Picture 6" descr="P:\Comunicacao Social\Trabalhos\2014\SAS 0004_2014 - Criação e atualização da identidade visual nas redes sociais\design\icone vetor para midia siocial\icone_fb.jpg"/>
          <p:cNvPicPr/>
          <p:nvPr/>
        </p:nvPicPr>
        <p:blipFill>
          <a:blip r:embed="rId1"/>
          <a:stretch/>
        </p:blipFill>
        <p:spPr>
          <a:xfrm>
            <a:off x="789120" y="458136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650" name="CaixaDeTexto 1"/>
          <p:cNvSpPr/>
          <p:nvPr/>
        </p:nvSpPr>
        <p:spPr>
          <a:xfrm>
            <a:off x="1447920" y="47260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99"/>
                </a:solidFill>
                <a:latin typeface="Arial"/>
                <a:ea typeface="MS PGothic"/>
              </a:rPr>
              <a:t>ans.regul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8" descr="P:\Comunicacao Social\Trabalhos\2014\SAS 0004_2014 - Criação e atualização da identidade visual nas redes sociais\design\icone vetor para midia siocial\icone_twitter.jpg"/>
          <p:cNvPicPr/>
          <p:nvPr/>
        </p:nvPicPr>
        <p:blipFill>
          <a:blip r:embed="rId2"/>
          <a:stretch/>
        </p:blipFill>
        <p:spPr>
          <a:xfrm>
            <a:off x="3421080" y="4645080"/>
            <a:ext cx="598320" cy="598320"/>
          </a:xfrm>
          <a:prstGeom prst="rect">
            <a:avLst/>
          </a:prstGeom>
          <a:ln w="0">
            <a:noFill/>
          </a:ln>
        </p:spPr>
      </p:pic>
      <p:sp>
        <p:nvSpPr>
          <p:cNvPr id="652" name="CaixaDeTexto 12"/>
          <p:cNvSpPr/>
          <p:nvPr/>
        </p:nvSpPr>
        <p:spPr>
          <a:xfrm>
            <a:off x="4026240" y="474984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99"/>
                </a:solidFill>
                <a:latin typeface="Arial"/>
                <a:ea typeface="MS PGothic"/>
              </a:rPr>
              <a:t>@ans_regul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9" descr="P:\Comunicacao Social\Trabalhos\2014\SAS 0004_2014 - Criação e atualização da identidade visual nas redes sociais\design\icone vetor para midia siocial\icone_youtube.jpg"/>
          <p:cNvPicPr/>
          <p:nvPr/>
        </p:nvPicPr>
        <p:blipFill>
          <a:blip r:embed="rId3"/>
          <a:stretch/>
        </p:blipFill>
        <p:spPr>
          <a:xfrm>
            <a:off x="6373800" y="464328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654" name="CaixaDeTexto 3"/>
          <p:cNvSpPr/>
          <p:nvPr/>
        </p:nvSpPr>
        <p:spPr>
          <a:xfrm>
            <a:off x="6983640" y="475920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99"/>
                </a:solidFill>
                <a:latin typeface="Arial"/>
                <a:ea typeface="MS PGothic"/>
              </a:rPr>
              <a:t>ansregul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tângulo 3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Como funciona hoje o mecanismo do ressarci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4" descr=""/>
          <p:cNvPicPr/>
          <p:nvPr/>
        </p:nvPicPr>
        <p:blipFill>
          <a:blip r:embed="rId1"/>
          <a:stretch/>
        </p:blipFill>
        <p:spPr>
          <a:xfrm>
            <a:off x="684360" y="1152360"/>
            <a:ext cx="4522680" cy="4797720"/>
          </a:xfrm>
          <a:prstGeom prst="rect">
            <a:avLst/>
          </a:prstGeom>
          <a:ln w="0">
            <a:noFill/>
          </a:ln>
        </p:spPr>
      </p:pic>
      <p:sp>
        <p:nvSpPr>
          <p:cNvPr id="563" name="Retângulo 4"/>
          <p:cNvSpPr/>
          <p:nvPr/>
        </p:nvSpPr>
        <p:spPr>
          <a:xfrm>
            <a:off x="5796000" y="1052640"/>
            <a:ext cx="3338640" cy="4868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CaixaDeTexto 5"/>
          <p:cNvSpPr/>
          <p:nvPr/>
        </p:nvSpPr>
        <p:spPr>
          <a:xfrm>
            <a:off x="5869080" y="1239840"/>
            <a:ext cx="31669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alibri"/>
                <a:ea typeface="MS PGothic"/>
              </a:rPr>
              <a:t>O ressarcimento é uma </a:t>
            </a:r>
            <a:r>
              <a:rPr b="1" lang="pt-BR" sz="2200" spc="-1" strike="noStrike">
                <a:solidFill>
                  <a:srgbClr val="ffffff"/>
                </a:solidFill>
                <a:latin typeface="Calibri"/>
                <a:ea typeface="MS PGothic"/>
              </a:rPr>
              <a:t>obrigação da ANS 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  <a:ea typeface="MS PGothic"/>
              </a:rPr>
              <a:t>definida na Lei 9.656/1998 e ocorre devido à utilização dos serviços do SUS pelas pessoas com planos</a:t>
            </a: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Calibri"/>
                <a:ea typeface="MS PGothic"/>
              </a:rPr>
              <a:t>de saúde. O objetivo é induzir as operadoras a </a:t>
            </a:r>
            <a:r>
              <a:rPr b="1" lang="pt-BR" sz="2200" spc="-1" strike="noStrike">
                <a:solidFill>
                  <a:srgbClr val="ffffff"/>
                </a:solidFill>
                <a:latin typeface="Calibri"/>
                <a:ea typeface="MS PGothic"/>
              </a:rPr>
              <a:t>cumprirem os contratos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  <a:ea typeface="MS PGothic"/>
              </a:rPr>
              <a:t> com uma rede de prestadores de serviços adequada e qualific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tângulo 4"/>
          <p:cNvSpPr/>
          <p:nvPr/>
        </p:nvSpPr>
        <p:spPr>
          <a:xfrm>
            <a:off x="6372360" y="2060640"/>
            <a:ext cx="2771640" cy="3506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O Mapa do ressarcim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CaixaDeTexto 2"/>
          <p:cNvSpPr/>
          <p:nvPr/>
        </p:nvSpPr>
        <p:spPr>
          <a:xfrm>
            <a:off x="0" y="112536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1.224.114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utorizações de Internação Hospitalar (AIH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notificadas entre 2008 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0" y="2060640"/>
          <a:ext cx="6329520" cy="3262320"/>
        </p:xfrm>
        <a:graphic>
          <a:graphicData uri="http://schemas.openxmlformats.org/drawingml/2006/table">
            <a:tbl>
              <a:tblPr/>
              <a:tblGrid>
                <a:gridCol w="1650960"/>
                <a:gridCol w="2220840"/>
                <a:gridCol w="2457720"/>
              </a:tblGrid>
              <a:tr h="1087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o de competência da AI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antidade de AIHs aprovadas no S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antidade de AIHs notificad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62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07.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.7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36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511.5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.2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1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24.8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.7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2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643.4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.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32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439.8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8.1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2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426.9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4.114 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69" name="CaixaDeTexto 1"/>
          <p:cNvSpPr/>
          <p:nvPr/>
        </p:nvSpPr>
        <p:spPr>
          <a:xfrm>
            <a:off x="6588000" y="2205000"/>
            <a:ext cx="23767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Calibri"/>
              </a:rPr>
              <a:t>1,7%**</a:t>
            </a:r>
            <a:br>
              <a:rPr sz="2400"/>
            </a:b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das internações realizadas nas unidades públicas</a:t>
            </a:r>
            <a:br>
              <a:rPr sz="2000"/>
            </a:b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de saúde</a:t>
            </a:r>
            <a:br>
              <a:rPr sz="2000"/>
            </a:b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referem-se a beneficiários de planos de saúd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CaixaDeTexto 6"/>
          <p:cNvSpPr/>
          <p:nvPr/>
        </p:nvSpPr>
        <p:spPr>
          <a:xfrm>
            <a:off x="6443640" y="4735440"/>
            <a:ext cx="266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(**) Esta percentagem já desconsidera as AIHs notificadas e que são, em média, deferidas quando ao méri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(cerca de 2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CaixaDeTexto 7"/>
          <p:cNvSpPr/>
          <p:nvPr/>
        </p:nvSpPr>
        <p:spPr>
          <a:xfrm>
            <a:off x="210960" y="5322960"/>
            <a:ext cx="512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Calibri"/>
              </a:rPr>
              <a:t>(*) Número de notificações realizadas </a:t>
            </a:r>
            <a:r>
              <a:rPr b="1" i="1" lang="pt-BR" sz="1600" spc="-1" strike="noStrike">
                <a:solidFill>
                  <a:srgbClr val="000000"/>
                </a:solidFill>
                <a:latin typeface="Calibri"/>
              </a:rPr>
              <a:t>sem </a:t>
            </a:r>
            <a:r>
              <a:rPr b="0" i="1" lang="pt-BR" sz="1600" spc="-1" strike="noStrike">
                <a:solidFill>
                  <a:srgbClr val="000000"/>
                </a:solidFill>
                <a:latin typeface="Calibri"/>
              </a:rPr>
              <a:t>análise do mér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apa do ressarcimento: Perfil Geral das Notificaçõ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Imagem 2" descr=""/>
          <p:cNvPicPr/>
          <p:nvPr/>
        </p:nvPicPr>
        <p:blipFill>
          <a:blip r:embed="rId1">
            <a:lum bright="70000" contrast="-70000"/>
          </a:blip>
          <a:srcRect l="0" t="557" r="0" b="8793"/>
          <a:stretch/>
        </p:blipFill>
        <p:spPr>
          <a:xfrm>
            <a:off x="2013120" y="1052640"/>
            <a:ext cx="4430520" cy="50688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179280" y="1414440"/>
            <a:ext cx="88567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pt-BR" sz="20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mulheres</a:t>
            </a:r>
            <a:r>
              <a:rPr b="0" lang="pt-BR" sz="20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presentam</a:t>
            </a:r>
            <a:r>
              <a:rPr b="0" lang="pt-BR" sz="20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58,1% dos atendimen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Partos (normal e cesáreas)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lideram a lista de procedimentos mais procur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aioria dos usuários são jovens adultos entre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25 e 34 anos de ida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maioria das notificações é relativa a atendimento de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urgência e emergênci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 ocorreu em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instituições beneficentes sem fins lucrativ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t-BR" sz="20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Região Sudeste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gista o maior volume de atendimentos (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62,97%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) em números absolu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Notificações segund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UF do prestador de serviç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Tocantins, Acre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 Roraima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presentam os maiores percentuais de AIHs (análise ponderad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Notificações segund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UF de residência dos usuári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A maioria das AIHs foram registradas nos estados do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Acre, Roraima, Tocantins, São Paulo </a:t>
            </a:r>
            <a:r>
              <a:rPr b="0" lang="pt-BR" sz="2000" spc="-1" strike="noStrike">
                <a:solidFill>
                  <a:srgbClr val="376092"/>
                </a:solidFill>
                <a:latin typeface="Calibri"/>
              </a:rPr>
              <a:t>e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 Santa Catarina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(análise ponderad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apa do ressarcimento: Perfil dos Atendimen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178920" y="1196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tendimentos de </a:t>
            </a:r>
            <a:r>
              <a:rPr b="1" lang="pt-BR" sz="2400" spc="-1" strike="noStrike">
                <a:solidFill>
                  <a:srgbClr val="006699"/>
                </a:solidFill>
                <a:latin typeface="Calibri"/>
              </a:rPr>
              <a:t>urgência e emergênci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representam </a:t>
            </a:r>
            <a:r>
              <a:rPr b="1" lang="pt-BR" sz="2400" spc="-1" strike="noStrike">
                <a:solidFill>
                  <a:srgbClr val="006699"/>
                </a:solidFill>
                <a:latin typeface="Calibri"/>
              </a:rPr>
              <a:t>68,46% do total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tendimentos </a:t>
            </a:r>
            <a:r>
              <a:rPr b="1" lang="pt-BR" sz="2400" spc="-1" strike="noStrike">
                <a:solidFill>
                  <a:srgbClr val="006699"/>
                </a:solidFill>
                <a:latin typeface="Calibri"/>
              </a:rPr>
              <a:t>eletivo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representam </a:t>
            </a:r>
            <a:r>
              <a:rPr b="1" lang="pt-BR" sz="2400" spc="-1" strike="noStrike">
                <a:solidFill>
                  <a:srgbClr val="006699"/>
                </a:solidFill>
                <a:latin typeface="Calibri"/>
              </a:rPr>
              <a:t>30,32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Gráfico 5" descr=""/>
          <p:cNvPicPr/>
          <p:nvPr/>
        </p:nvPicPr>
        <p:blipFill>
          <a:blip r:embed="rId1"/>
          <a:stretch/>
        </p:blipFill>
        <p:spPr>
          <a:xfrm>
            <a:off x="542880" y="2419200"/>
            <a:ext cx="80582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tângulo 4"/>
          <p:cNvSpPr/>
          <p:nvPr/>
        </p:nvSpPr>
        <p:spPr>
          <a:xfrm>
            <a:off x="539640" y="1484280"/>
            <a:ext cx="38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Cirurgia: 38,04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Clínica médica: 27,2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bstetrícia: 17,89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ítulo 1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apa do ressarcimento: Perfil dos Atend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tângulo 1"/>
          <p:cNvSpPr/>
          <p:nvPr/>
        </p:nvSpPr>
        <p:spPr>
          <a:xfrm>
            <a:off x="0" y="1052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Calibri"/>
              </a:rPr>
              <a:t>Quantidade de AIHs por especialida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Gráfico 5" descr=""/>
          <p:cNvPicPr/>
          <p:nvPr/>
        </p:nvPicPr>
        <p:blipFill>
          <a:blip r:embed="rId1"/>
          <a:stretch/>
        </p:blipFill>
        <p:spPr>
          <a:xfrm>
            <a:off x="212760" y="2494080"/>
            <a:ext cx="8718480" cy="3705120"/>
          </a:xfrm>
          <a:prstGeom prst="rect">
            <a:avLst/>
          </a:prstGeom>
          <a:ln w="0">
            <a:noFill/>
          </a:ln>
        </p:spPr>
      </p:pic>
      <p:sp>
        <p:nvSpPr>
          <p:cNvPr id="582" name="Retângulo 6"/>
          <p:cNvSpPr/>
          <p:nvPr/>
        </p:nvSpPr>
        <p:spPr>
          <a:xfrm>
            <a:off x="5003640" y="155736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ediatria: 10,61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siquiatria: 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tângulo 2"/>
          <p:cNvSpPr/>
          <p:nvPr/>
        </p:nvSpPr>
        <p:spPr>
          <a:xfrm>
            <a:off x="752400" y="1197000"/>
            <a:ext cx="7632720" cy="4302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tângulo 5"/>
          <p:cNvSpPr/>
          <p:nvPr/>
        </p:nvSpPr>
        <p:spPr>
          <a:xfrm>
            <a:off x="752400" y="119700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alibri"/>
              </a:rPr>
              <a:t>Principais procedimentos realizad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ítulo 1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apa do ressarcimento: Perfil dos Atend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tângulo 8"/>
          <p:cNvSpPr/>
          <p:nvPr/>
        </p:nvSpPr>
        <p:spPr>
          <a:xfrm>
            <a:off x="5374800" y="2205000"/>
            <a:ext cx="19486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Quantidade de A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Gráfico 10" descr=""/>
          <p:cNvPicPr/>
          <p:nvPr/>
        </p:nvPicPr>
        <p:blipFill>
          <a:blip r:embed="rId1"/>
          <a:stretch/>
        </p:blipFill>
        <p:spPr>
          <a:xfrm>
            <a:off x="1500120" y="1847880"/>
            <a:ext cx="61390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tângulo 1"/>
          <p:cNvSpPr/>
          <p:nvPr/>
        </p:nvSpPr>
        <p:spPr>
          <a:xfrm>
            <a:off x="0" y="5732640"/>
            <a:ext cx="9144000" cy="10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ítulo 1"/>
          <p:cNvSpPr/>
          <p:nvPr/>
        </p:nvSpPr>
        <p:spPr>
          <a:xfrm>
            <a:off x="34920" y="115920"/>
            <a:ext cx="91090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apa do ressarcimento: Idade dos usuários e tipo de intern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Gráfico 4" descr=""/>
          <p:cNvPicPr/>
          <p:nvPr/>
        </p:nvPicPr>
        <p:blipFill>
          <a:blip r:embed="rId1"/>
          <a:stretch/>
        </p:blipFill>
        <p:spPr>
          <a:xfrm>
            <a:off x="426960" y="1951200"/>
            <a:ext cx="8363160" cy="4821120"/>
          </a:xfrm>
          <a:prstGeom prst="rect">
            <a:avLst/>
          </a:prstGeom>
          <a:ln w="0">
            <a:noFill/>
          </a:ln>
        </p:spPr>
      </p:pic>
      <p:sp>
        <p:nvSpPr>
          <p:cNvPr id="591" name="CaixaDeTexto 2"/>
          <p:cNvSpPr/>
          <p:nvPr/>
        </p:nvSpPr>
        <p:spPr>
          <a:xfrm>
            <a:off x="250920" y="113652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aioria dos usuários são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adultos joven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nas faixas etárias de 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30 a 34 ano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 de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25 a 29 ano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 buscam atendimento de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urgência e emerg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5:19:07Z</dcterms:created>
  <dc:creator>ANS</dc:creator>
  <dc:description/>
  <dc:language>en-US</dc:language>
  <cp:lastModifiedBy>Géssica Janaína Trindade</cp:lastModifiedBy>
  <cp:lastPrinted>2014-12-15T22:23:15Z</cp:lastPrinted>
  <dcterms:modified xsi:type="dcterms:W3CDTF">2014-12-16T15:41:48Z</dcterms:modified>
  <cp:revision>499</cp:revision>
  <dc:subject/>
  <dc:title>Slide 1</dc:title>
</cp:coreProperties>
</file>